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C86-17D8-4019-94A1-7949CFA0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7EC8-6ECB-4243-A7A7-7CB913CCB7AA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E40-E835-446E-8A8A-DD336F54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150-EE00-4AE6-9397-560A9A1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432-5D9F-416E-8E96-BF68A031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056-A15E-4D48-AE62-6612DF4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143-37EA-43FA-AF26-6E330C32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B278-20D4-491D-8AEC-E4F53BB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58C7-93F7-435E-9794-795D2766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DAD5-B2F7-4B74-A2C6-B967656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029-DBD6-4B0A-A9D4-D2085DEB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1098-99E0-446D-9B07-6B6E784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811-FCC6-4C34-BF3F-D19512A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D63-640B-4800-B578-8CB6E29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D32-2CFD-4D26-AEC5-847B6AA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B2A0-8628-4A6E-974A-D377618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1861-50AA-4A15-B01C-6883287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3AA6-351B-4A42-8A5F-F3696E8F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5FEC-3D21-4B0C-9A8E-DC1E100F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3CC-6653-429A-82A6-1F9F692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27E-5B00-40C0-90C6-C279EF8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E6B-4B88-45F5-9E08-F0875AC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0C0-98C8-4090-AB4A-A920109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FED-6AEB-4F27-8796-29E3BC3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E02-C072-4E92-8437-3239D3A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206-CFF0-4379-BFC1-99A6AC2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F955-4F2E-40C9-9E0B-BA7679BC8E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056-44AD-4A62-9C82-B6898D77326D}" type="slidenum"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lideshare.net/bjansen08/big6-primary-arlington-isd-and-esc-xi-2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Research=Big 6!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f6"/>
                </a:solidFill>
                <a:latin typeface="Arial"/>
              </a:rPr>
              <a:t>Helping elementary teachers navigate teaching the research pro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1828800"/>
          <a:ext cx="8534160" cy="47102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58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dff"/>
                </a:solidFill>
                <a:latin typeface="Arial Black"/>
              </a:rPr>
              <a:t>The Data Chart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828800"/>
          <a:ext cx="8534160" cy="47102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58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  <p:sp>
        <p:nvSpPr>
          <p:cNvPr id="137" name="Flowchart: Connector 7"/>
          <p:cNvSpPr/>
          <p:nvPr/>
        </p:nvSpPr>
        <p:spPr>
          <a:xfrm>
            <a:off x="2133720" y="1676520"/>
            <a:ext cx="6248160" cy="83808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Flowchart: Connector 8"/>
          <p:cNvSpPr/>
          <p:nvPr/>
        </p:nvSpPr>
        <p:spPr>
          <a:xfrm>
            <a:off x="76320" y="1447920"/>
            <a:ext cx="8915400" cy="502920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Flowchart: Connector 9"/>
          <p:cNvSpPr/>
          <p:nvPr/>
        </p:nvSpPr>
        <p:spPr>
          <a:xfrm>
            <a:off x="228600" y="2057400"/>
            <a:ext cx="1143000" cy="228600"/>
          </a:xfrm>
          <a:prstGeom prst="flowChartConnector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Flowchart: Connector 10"/>
          <p:cNvSpPr/>
          <p:nvPr/>
        </p:nvSpPr>
        <p:spPr>
          <a:xfrm rot="5400000">
            <a:off x="-914760" y="3429000"/>
            <a:ext cx="4267080" cy="213372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1" name="Rectangle 11" descr=""/>
          <p:cNvPicPr/>
          <p:nvPr/>
        </p:nvPicPr>
        <p:blipFill>
          <a:blip r:embed="rId1"/>
          <a:stretch/>
        </p:blipFill>
        <p:spPr>
          <a:xfrm>
            <a:off x="914400" y="396720"/>
            <a:ext cx="2724120" cy="2078280"/>
          </a:xfrm>
          <a:prstGeom prst="rect">
            <a:avLst/>
          </a:prstGeom>
          <a:ln w="0">
            <a:noFill/>
          </a:ln>
        </p:spPr>
      </p:pic>
      <p:pic>
        <p:nvPicPr>
          <p:cNvPr id="142" name="Rectangle 12" descr=""/>
          <p:cNvPicPr/>
          <p:nvPr/>
        </p:nvPicPr>
        <p:blipFill>
          <a:blip r:embed="rId2"/>
          <a:stretch/>
        </p:blipFill>
        <p:spPr>
          <a:xfrm>
            <a:off x="2743200" y="2487600"/>
            <a:ext cx="531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13" descr=""/>
          <p:cNvPicPr/>
          <p:nvPr/>
        </p:nvPicPr>
        <p:blipFill>
          <a:blip r:embed="rId3"/>
          <a:stretch/>
        </p:blipFill>
        <p:spPr>
          <a:xfrm>
            <a:off x="2212920" y="4395960"/>
            <a:ext cx="3425760" cy="6570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14" descr=""/>
          <p:cNvPicPr/>
          <p:nvPr/>
        </p:nvPicPr>
        <p:blipFill>
          <a:blip r:embed="rId4"/>
          <a:stretch/>
        </p:blipFill>
        <p:spPr>
          <a:xfrm>
            <a:off x="6632640" y="1195560"/>
            <a:ext cx="2073240" cy="6570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7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Which one to u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Data Char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Individual, small group or whole group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eacher/Librarian lead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tudent progress data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pends on the topic and how long the instructor wants to tak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Research Journal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Individual, small group, or whole group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eacher/librarian can model using thi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tudents use the information from the data sheet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pends on the topic and how long the instructor wants to tak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0" name="Rectangle 6" descr=""/>
          <p:cNvPicPr/>
          <p:nvPr/>
        </p:nvPicPr>
        <p:blipFill>
          <a:blip r:embed="rId1"/>
          <a:stretch/>
        </p:blipFill>
        <p:spPr>
          <a:xfrm>
            <a:off x="407880" y="5662440"/>
            <a:ext cx="8487000" cy="9036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Example: Author Stud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676520"/>
          <a:ext cx="8534520" cy="470988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 Kevin Henke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ebsite: kevinhenkes.com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Book jacket: 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ebsite: netTrekker.com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books has he written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have a favorite book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re does he liv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old is h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n did he first start writing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62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have a family?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was his first book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illustrate his own books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Example: Butterfl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447920"/>
          <a:ext cx="8534160" cy="48416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 Butterflie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Trade Book: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orld Book Encyclopedia B Edition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Butterfly Farmer: Frank Butter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many stages are in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long is each stage in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are the names of each stage of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 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many parts does a butterfly hav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36828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do butterflies eat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  </a:t>
                      </a: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re do butterflies live?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kind of butterflies live around her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do butterflies protect themselves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523880" y="2925720"/>
          <a:ext cx="6096240" cy="731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itations </a:t>
            </a:r>
            <a:r>
              <a:rPr b="0" lang="en-US" sz="1200" spc="-1" strike="noStrike">
                <a:solidFill>
                  <a:srgbClr val="fbcdff"/>
                </a:solidFill>
                <a:latin typeface="Arial Black"/>
              </a:rPr>
              <a:t>(thank you list)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Jansen, Barbara A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The Big 6 Goes Primary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Columbus: Linworth Publishing, Inc., 2009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Eisenberg, Mike and Robert E Berkowitz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The Big6 Information &amp; Technology Skills for Student Achievement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2009. 8 October 2009 &lt;http://www.big6.com&gt;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Hicks, Mark. "Discovery Education's Clip Art Gallery." 2009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Discovery Education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18 October 2009 &lt;http://school.discoveryeducation.com/clipart/category/awrd0001.html&gt;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"Big6 Primary Arlington ISD and ESC XI (2) " 10/19/2009 &lt;</a:t>
            </a:r>
            <a:r>
              <a:rPr b="0" lang="en-US" sz="1600" spc="-1" strike="noStrike" u="sng">
                <a:solidFill>
                  <a:srgbClr val="9933ff"/>
                </a:solidFill>
                <a:uFillTx/>
                <a:latin typeface="Arial"/>
                <a:hlinkClick r:id="rId1"/>
              </a:rPr>
              <a:t>http://www.slideshare.net/bjansen08/big6-primary-arlington-isd-and-esc-xi-2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1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New elementary research TEKS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eeling Like Thi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ant to feel like thi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" name="Content Placeholder 11" descr="hello.gif"/>
          <p:cNvPicPr/>
          <p:nvPr/>
        </p:nvPicPr>
        <p:blipFill>
          <a:blip r:embed="rId1"/>
          <a:stretch/>
        </p:blipFill>
        <p:spPr>
          <a:xfrm>
            <a:off x="685800" y="2362320"/>
            <a:ext cx="3497400" cy="330660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13" descr="movinup.gif"/>
          <p:cNvPicPr/>
          <p:nvPr/>
        </p:nvPicPr>
        <p:blipFill>
          <a:blip r:embed="rId2"/>
          <a:stretch/>
        </p:blipFill>
        <p:spPr>
          <a:xfrm>
            <a:off x="5334120" y="2286000"/>
            <a:ext cx="2711160" cy="32544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4" descr=""/>
          <p:cNvPicPr/>
          <p:nvPr/>
        </p:nvPicPr>
        <p:blipFill>
          <a:blip r:embed="rId3"/>
          <a:stretch/>
        </p:blipFill>
        <p:spPr>
          <a:xfrm>
            <a:off x="5321160" y="2535120"/>
            <a:ext cx="903600" cy="658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What is Big 6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Big6 is a process model of how people of all ages solve an information problem. </a:t>
            </a:r>
            <a:r>
              <a:rPr b="0" lang="en-US" sz="600" spc="-1" strike="noStrike">
                <a:solidFill>
                  <a:srgbClr val="080808"/>
                </a:solidFill>
                <a:latin typeface="Arial"/>
              </a:rPr>
              <a:t>(Jansen 2009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This process encompasses six stage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are the 6 stage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 Defini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formation Seeking Strategie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ocation &amp; Acce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Use of Informa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ynthesi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valua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Huh…Show me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ask Defini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do we need to do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fine the proble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dentify the information neede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5" name="Content Placeholder 6" descr="Research Journal 2.JPG"/>
          <p:cNvPicPr/>
          <p:nvPr/>
        </p:nvPicPr>
        <p:blipFill>
          <a:blip r:embed="rId1"/>
          <a:stretch/>
        </p:blipFill>
        <p:spPr>
          <a:xfrm>
            <a:off x="5208480" y="2174760"/>
            <a:ext cx="291492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Show me more…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marL="351720" indent="-35172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nformation Seeking Strategi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can we use to find what we ne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termine all possible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lect the best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0" name="Content Placeholder 6" descr="Research Journal 3.JPG"/>
          <p:cNvPicPr/>
          <p:nvPr/>
        </p:nvPicPr>
        <p:blipFill>
          <a:blip r:embed="rId1"/>
          <a:stretch/>
        </p:blipFill>
        <p:spPr>
          <a:xfrm>
            <a:off x="5011560" y="2174760"/>
            <a:ext cx="330840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More more…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Location &amp; 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ere can we find what we ne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Locate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nd information within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5" name="Content Placeholder 6" descr="Research Journal 4.JPG"/>
          <p:cNvPicPr/>
          <p:nvPr/>
        </p:nvPicPr>
        <p:blipFill>
          <a:blip r:embed="rId1"/>
          <a:stretch/>
        </p:blipFill>
        <p:spPr>
          <a:xfrm>
            <a:off x="5192640" y="2174760"/>
            <a:ext cx="294660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hhh…I’m getting i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Use of informatio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information can we us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ngage (e.g., read, hear, view, touch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ract needed informa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0" name="Content Placeholder 6" descr="Research Journal 5.JPG"/>
          <p:cNvPicPr/>
          <p:nvPr/>
        </p:nvPicPr>
        <p:blipFill>
          <a:blip r:embed="rId1"/>
          <a:stretch/>
        </p:blipFill>
        <p:spPr>
          <a:xfrm>
            <a:off x="4648320" y="2286000"/>
            <a:ext cx="20304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Research Journal 6.JPG"/>
          <p:cNvPicPr/>
          <p:nvPr/>
        </p:nvPicPr>
        <p:blipFill>
          <a:blip r:embed="rId2"/>
          <a:stretch/>
        </p:blipFill>
        <p:spPr>
          <a:xfrm>
            <a:off x="6700680" y="3505320"/>
            <a:ext cx="2149560" cy="28861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There is more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ow can we show what we learn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rganize Informa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resent the resul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is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6" name="Content Placeholder 10" descr="Research Journal 7.JPG"/>
          <p:cNvPicPr/>
          <p:nvPr/>
        </p:nvPicPr>
        <p:blipFill>
          <a:blip r:embed="rId1"/>
          <a:stretch/>
        </p:blipFill>
        <p:spPr>
          <a:xfrm>
            <a:off x="4267080" y="2133720"/>
            <a:ext cx="2229120" cy="304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Research Journal 8.JPG"/>
          <p:cNvPicPr/>
          <p:nvPr/>
        </p:nvPicPr>
        <p:blipFill>
          <a:blip r:embed="rId2"/>
          <a:stretch/>
        </p:blipFill>
        <p:spPr>
          <a:xfrm>
            <a:off x="6629400" y="3581280"/>
            <a:ext cx="2362320" cy="2907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Last but not leas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ow will we know if we did wel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Judge the result (effectiveness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Judge the process (efficiency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" name="Content Placeholder 6" descr="Research Journal 9.JPG"/>
          <p:cNvPicPr/>
          <p:nvPr/>
        </p:nvPicPr>
        <p:blipFill>
          <a:blip r:embed="rId1"/>
          <a:stretch/>
        </p:blipFill>
        <p:spPr>
          <a:xfrm>
            <a:off x="4114800" y="2133720"/>
            <a:ext cx="2209680" cy="301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Research Journal 10.JPG"/>
          <p:cNvPicPr/>
          <p:nvPr/>
        </p:nvPicPr>
        <p:blipFill>
          <a:blip r:embed="rId2"/>
          <a:stretch/>
        </p:blipFill>
        <p:spPr>
          <a:xfrm>
            <a:off x="6400800" y="2895480"/>
            <a:ext cx="2509920" cy="3409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27:59Z</dcterms:created>
  <dc:creator>John &amp; Brandi</dc:creator>
  <dc:description/>
  <dc:language>en-US</dc:language>
  <cp:lastModifiedBy>John &amp; Brandi</cp:lastModifiedBy>
  <dcterms:modified xsi:type="dcterms:W3CDTF">2009-10-20T00:39:17Z</dcterms:modified>
  <cp:revision>36</cp:revision>
  <dc:subject/>
  <dc:title>Research=Big 6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01033</vt:lpwstr>
  </property>
</Properties>
</file>